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86BA-5AC0-47BD-BDAE-7EEF20C2B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DA62-F36E-4E63-BF50-B0E4CF48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E7A1-5EF2-47A7-B4D5-90DC1DA3B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F6B0-07CD-4703-80C3-BAB5D9559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7B63-9251-47AC-9655-8FF400BE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D4C9-B9E4-4EF7-82F1-8C6A2D50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6123-19F2-4158-889E-E065657D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0A41-D603-4334-9D84-6DF8F7AB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F062-5455-43FE-A387-243968AF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DCB2-7BC7-4133-916B-1753B6A8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B569-849B-4FFB-87DC-2CAD26E5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DA12-0168-4578-9510-CA98209B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0BE7-92B2-4E0D-B2A3-0B422D852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22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umin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Macintosh HD:Users:outcalt_linda:Desktop:recording1.mov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001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9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Macintosh HD:Users:outcalt_linda:Desktop:Recording2.mov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815364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00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06:27:26Z</dcterms:created>
  <dc:creator>ASD Staff</dc:creator>
  <dc:description/>
  <dc:language>en-US</dc:language>
  <cp:lastModifiedBy>ASD Staff</cp:lastModifiedBy>
  <dcterms:modified xsi:type="dcterms:W3CDTF">2008-07-21T06:33:46Z</dcterms:modified>
  <cp:revision>2</cp:revision>
  <dc:subject/>
  <dc:title>How to Record</dc:title>
</cp:coreProperties>
</file>